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B45E29-86F2-47A9-8C02-F50761E02DE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778C18-CFEB-4895-B4D8-74802D0DFFE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F66C28-1554-408E-B010-B502467BBCD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FC0980-B48C-4D5A-8CED-0C0BC0DA72D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3A1664-19B4-4EBB-B9B8-FC008B14090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665C4D-AD30-4F7F-856A-9420DD1E493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C36022-086E-49C7-A3E6-DF841A01EE2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6DEC08-97DF-4488-B809-001FFFE8032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9AA5A7-510D-4470-BDB2-A46BD9F1909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9241D-FB69-4253-959D-A16581C7E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5AE22-832D-429A-91CD-01D0F433893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C9E40-EFDC-48B5-B286-7E21C36FD6C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1DA8D-6AC7-4E63-AF72-8643C86FAA7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ACC63-591C-4144-9325-8C93C6E0E55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C2687-9AB9-41F3-8DD9-DD0A681115B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FCB7A-2435-41BB-A60C-512B58F9DE1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C9B32-E359-4012-97B7-D7369D68E35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B7DD0-8AD8-4568-A05A-91DFD4BFF1D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901FD-4034-47BD-BC82-A3815BDC58F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AEBCD-D135-4593-A98B-1DF7645C7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1F686-3047-4738-BBC3-383D816B8C2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61D955-AB66-4DAC-B866-9924E49AC33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935CE0-161C-4B7B-9F8A-2EDB9A5FADB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1ED00D-9A55-4C05-A775-9F2437FC33F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B30BD7-CF5C-470D-8E37-764818F6B27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E2D63B-58A0-46C4-85E8-DC85DF5CBDF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31AAD9-B5CC-44A3-81B4-1F785B48EDD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EC729B-45B7-4E44-AC68-F08A724DA67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47248D-B6BB-4845-8449-659CFA62587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204827-1580-43CE-99A1-D2F2659E5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8295-4F3E-468A-A300-FB514A59A18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30F2AF-D5B8-48BE-9EE6-93F1F3A8D17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CE42EE-3175-42FB-854C-D7D3684C6FB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0A3A0D-D561-407F-92E7-80B6D0A5CF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4590F-296C-4A35-89EC-3D22D4F6DC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BA29D-F5EA-4BDD-8201-527E3BBF67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8573-41B5-40CF-8988-626A559FB9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90F64-E10C-4C86-87E6-930E97359A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658A9-53B9-4F33-A769-71F56A55B1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D0B7A-6BF8-4A29-A416-0226097760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47727-982D-49CF-86F6-EB437B223E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80404-23DA-471D-9CED-CD028DF461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25B46-7615-4DDB-92A1-34637612D9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140F1-570E-40DD-8982-D2E42ED964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8AE34-7F41-4269-B61C-130A26E178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274AA-A8D2-4071-9EC8-65620D8AAB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0D775-A343-43FF-934A-13A6E18007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C97B8-7930-47C9-BB0A-70F981CE9E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513AD-D9E4-4524-838D-0B6EECF40B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89E2B-DD85-435F-AA0F-F8A2732910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DD25A-DE8B-4841-A9C6-AA4F0AFD10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12F50-25CC-4C32-B174-E9DCB590DC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D1291-1902-4332-A2AB-BC9263E937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64B88-23C6-4080-9198-410A4926E4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D3DCA-F846-4BC0-8DFE-2ACF9FE690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E65F4-E624-4CA1-9208-98A0DA0E5F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78F2B-2A59-4B3A-BC5C-105799FE50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5D78-D993-45C9-B088-C0B546D0B09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A317-7AB6-49B5-BE6E-4DF69FB66F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E0D0-157B-4A1F-8170-D7C73BC8E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A160-196F-4B95-AACC-10BF0C91AD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46B0-144E-4108-8C29-92CAF8D966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F276-9F1C-4AAD-9101-7C7DA721D1F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18A3-C034-4FA2-A9F4-56B0F75A09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503F-C786-46F9-AF79-903EA9D34D9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91A9-8207-41D5-8512-BA867A122F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C8DF-BAE1-4ED0-B79A-C1F980FAB7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F011-5A5C-449A-A43D-B3E9C7D4B7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92D4-D82D-48DC-B95F-A6A54FF5990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63993-40BA-4AF3-81A0-87294225A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F0747-F026-49EE-9125-60DF9194582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5E1268-A826-4732-BBDD-668E77D178C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F5058-BFAD-4B27-BF7E-6B747198C59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CFADF-0DA0-48C8-B7DA-C4BB40A1805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5D39D-5B91-4106-95AB-59E4DB6B275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C260A-27D4-4738-BABC-D30B46848A4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E4C97-A953-4B5E-A273-7B299DC37E7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D803E-9D0F-4C9A-9D3F-EA13E9BB823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BE215-87B4-4CF2-BDED-BF00AE236C9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84382-AE34-4B17-B998-F37726D80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928C1-AB19-402C-8B1E-58F8CFC889E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6EBDAB-A142-44FB-A3A6-30F6413EA24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4AD83C-23EA-45B4-8CC0-52BFAD3B0D0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64693A-33E1-4F59-B966-467AC40899C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9C92B4-D10D-48D5-AC3F-0CC3E0B081E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428A42-A5F9-405E-85DB-B23D25523F9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4D2D04-1AD4-41BF-A971-543DBA55E7A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8EB38E-21F1-4410-A0D1-4EDF1FF8EF0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7962EB-4869-4A55-AEBD-1AE47B94FD6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4844C0-3AA8-4289-A681-5300DD8E0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904A63-33A7-437A-996D-52751E7C561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F3AE0F-5401-4B36-8D2E-CAE0BB31303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62904F-205C-443C-88B9-E8D018ABE1E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DA32C-C277-4D47-80EB-D8AA8C394F6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3F8EF-18EE-489A-B731-EF2421382BA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E1B32-735E-4AF1-BF46-C5C95C2C33C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3F6DA-0222-4CB6-BDA9-F65F5B6A24B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EDD08-4E96-4E05-8B9A-57BE3A78A59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0DCF8-184C-4049-94C8-178028AD24E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F39D9-C0FE-43F4-8478-B3FE8A924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A5E12-5E46-49F6-BC5F-494CE88274B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E5979-20BA-4489-A3DA-B98AC071F71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12657-B1C3-4436-A859-744CF74BDCE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79BEB-AEE1-497E-826F-C668D1F708A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5D6EB-813B-410A-8CBF-3CB0C107595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2B9AF-FFAB-4779-8406-3CD30B97DBB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580CD5-D3D2-4E0A-AC0C-61E9E8FF57E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81AA03-B616-4121-94E6-7689E499692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4A48EE-0F9F-48DD-9A05-7428067DBC2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A2259-4DAC-4DE9-864A-8957F53F8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2E7B9-5C7A-4374-BAE7-56F2A28CDE7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130893-072C-4E64-AF95-4D31279F4CF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97725-1571-4FA0-B4E8-AFCC3A3CD84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AA236-E84A-46B4-9004-B7B682BC24A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05FA29-EBB0-4216-9CBA-6FC56D20AA1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636AD2-3B72-4DB4-94EC-8E9654551B8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F2EC31-C70A-4921-9360-E0C5A730C30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3777B0-D2CC-4A7E-A2A2-A057361B306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A90DAE-F530-4B41-8C01-AFFCF04551A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9AA4A3-99EB-4214-94B9-3FF2B0680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A45D-3FCA-4C01-A850-033F2E4A498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D89C-7F40-4632-843E-354C8622275E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B8D5-3DBE-42FC-A39E-28728A51815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62D7-3BAE-4210-910B-95C0FB559D5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71EC-CDBD-400A-89AA-A4EA847FF9D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9323-164D-42FD-9907-AD4666878B2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F9C1-82CE-4138-B8E9-1DCE7655B4C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EDB4-9D45-4696-ABEC-52A00A25853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C620-ACAE-4ACD-A4E8-25C9B56BFBC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EA4F-8ADA-4C8D-8619-928EB126B97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341360"/>
            <a:ext cx="8215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User and Social Innovatio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i: Prof. Francesco Morace – Rebecca Per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dLM a cui è offerto: tutti i CdLM (NO D&amp;E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2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ngles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80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ame per non frequentanti: 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99180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Laurea Magistrale - 2° 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12 settembre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539640" y="378936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95959"/>
                </a:solidFill>
                <a:latin typeface="Arial"/>
                <a:ea typeface="Verdana"/>
              </a:rPr>
              <a:t>Emerge il </a:t>
            </a:r>
            <a:r>
              <a:rPr b="1" lang="it-IT" sz="2000" spc="-1" strike="noStrike" u="sng">
                <a:solidFill>
                  <a:srgbClr val="595959"/>
                </a:solidFill>
                <a:uFillTx/>
                <a:latin typeface="Arial"/>
                <a:ea typeface="Verdana"/>
              </a:rPr>
              <a:t>bisogno di nuovi metodi e un nuovo approccio sistematico nel mondo del design </a:t>
            </a:r>
            <a:r>
              <a:rPr b="1" lang="it-IT" sz="2000" spc="-1" strike="noStrike">
                <a:solidFill>
                  <a:srgbClr val="595959"/>
                </a:solidFill>
                <a:latin typeface="Arial"/>
                <a:ea typeface="Verdana"/>
              </a:rPr>
              <a:t>in modo da poter sviluppare progetti in sintonia con i nuovi contesti sociali, dove </a:t>
            </a:r>
            <a:r>
              <a:rPr b="1" lang="it-IT" sz="2000" spc="-1" strike="noStrike" u="sng">
                <a:solidFill>
                  <a:srgbClr val="595959"/>
                </a:solidFill>
                <a:uFillTx/>
                <a:latin typeface="Arial"/>
                <a:ea typeface="Verdana"/>
              </a:rPr>
              <a:t>nuovi gruppi di persone</a:t>
            </a:r>
            <a:r>
              <a:rPr b="1" lang="it-IT" sz="2000" spc="-1" strike="noStrike">
                <a:solidFill>
                  <a:srgbClr val="595959"/>
                </a:solidFill>
                <a:latin typeface="Arial"/>
                <a:ea typeface="Verdana"/>
              </a:rPr>
              <a:t>, e non necessariamente designer professionisti, agiscono con una sorta di </a:t>
            </a:r>
            <a:r>
              <a:rPr b="1" lang="ja-JP" sz="2000" spc="-1" strike="noStrike">
                <a:solidFill>
                  <a:srgbClr val="595959"/>
                </a:solidFill>
                <a:latin typeface="Arial"/>
                <a:ea typeface="Verdana"/>
              </a:rPr>
              <a:t>“</a:t>
            </a:r>
            <a:r>
              <a:rPr b="1" lang="it-IT" sz="2000" spc="-1" strike="noStrike">
                <a:solidFill>
                  <a:srgbClr val="595959"/>
                </a:solidFill>
                <a:latin typeface="Arial"/>
                <a:ea typeface="Verdana"/>
              </a:rPr>
              <a:t>consapevolezza progettuale</a:t>
            </a:r>
            <a:r>
              <a:rPr b="1" lang="ja-JP" sz="2000" spc="-1" strike="noStrike">
                <a:solidFill>
                  <a:srgbClr val="595959"/>
                </a:solidFill>
                <a:latin typeface="Arial"/>
                <a:ea typeface="Verdana"/>
              </a:rPr>
              <a:t>”</a:t>
            </a:r>
            <a:r>
              <a:rPr b="1" lang="it-IT" sz="2000" spc="-1" strike="noStrike">
                <a:solidFill>
                  <a:srgbClr val="595959"/>
                </a:solidFill>
                <a:latin typeface="Arial"/>
                <a:ea typeface="Verdana"/>
              </a:rPr>
              <a:t> e </a:t>
            </a:r>
            <a:r>
              <a:rPr b="1" lang="it-IT" sz="2000" spc="-1" strike="noStrike" u="sng">
                <a:solidFill>
                  <a:srgbClr val="595959"/>
                </a:solidFill>
                <a:uFillTx/>
                <a:latin typeface="Arial"/>
                <a:ea typeface="Verdana"/>
              </a:rPr>
              <a:t>non vogliono rimanere spettatori passivi dei processi di progettazione</a:t>
            </a:r>
            <a:r>
              <a:rPr b="1" lang="it-IT" sz="2000" spc="-1" strike="noStrike">
                <a:solidFill>
                  <a:srgbClr val="595959"/>
                </a:solidFill>
                <a:latin typeface="Arial"/>
                <a:ea typeface="Verdana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1377720" y="158760"/>
            <a:ext cx="595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Corsi a scelta Laurea Magistrale - 2° semest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12 settembre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468360" y="1268280"/>
            <a:ext cx="8351640" cy="88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5959"/>
                </a:solidFill>
                <a:latin typeface="Arial"/>
                <a:ea typeface="Verdana"/>
              </a:rPr>
              <a:t>Il corso si concentrerà sui seguenti aspetti principali, fornendo strumenti e metodologie specifiche che permetteranno agli studenti di: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595959"/>
                </a:solidFill>
                <a:latin typeface="Arial"/>
                <a:ea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spcAft>
                <a:spcPts val="799"/>
              </a:spcAft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95959"/>
                </a:solidFill>
                <a:latin typeface="Arial"/>
                <a:ea typeface="Verdana"/>
              </a:rPr>
              <a:t> </a:t>
            </a:r>
            <a:r>
              <a:rPr b="1" lang="it-IT" sz="2000" spc="-1" strike="noStrike">
                <a:solidFill>
                  <a:srgbClr val="595959"/>
                </a:solidFill>
                <a:latin typeface="Arial"/>
                <a:ea typeface="Verdana"/>
              </a:rPr>
              <a:t>Procedere a una lettura sistematica del cambiamento sociale e dei comportamenti delle persone, prima di definire progetti e strategie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spcAft>
                <a:spcPts val="799"/>
              </a:spcAft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95959"/>
                </a:solidFill>
                <a:latin typeface="Arial"/>
                <a:ea typeface="Verdana"/>
              </a:rPr>
              <a:t> </a:t>
            </a:r>
            <a:r>
              <a:rPr b="1" lang="it-IT" sz="2000" spc="-1" strike="noStrike">
                <a:solidFill>
                  <a:srgbClr val="595959"/>
                </a:solidFill>
                <a:latin typeface="Arial"/>
                <a:ea typeface="Verdana"/>
              </a:rPr>
              <a:t>Considerare le tendenze socio-culturali come strumento credibile di </a:t>
            </a:r>
            <a:r>
              <a:rPr b="1" i="1" lang="it-IT" sz="2000" spc="-1" strike="noStrike">
                <a:solidFill>
                  <a:srgbClr val="595959"/>
                </a:solidFill>
                <a:latin typeface="Arial"/>
                <a:ea typeface="Verdana"/>
              </a:rPr>
              <a:t>design thinking</a:t>
            </a:r>
            <a:r>
              <a:rPr b="1" lang="it-IT" sz="2000" spc="-1" strike="noStrike">
                <a:solidFill>
                  <a:srgbClr val="595959"/>
                </a:solidFill>
                <a:latin typeface="Arial"/>
                <a:ea typeface="Verdana"/>
              </a:rPr>
              <a:t>, che può rappresentare un vocabolario comune per i mondi della ricerca, del design e del business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spcAft>
                <a:spcPts val="799"/>
              </a:spcAft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95959"/>
                </a:solidFill>
                <a:latin typeface="Arial"/>
                <a:ea typeface="Verdana"/>
              </a:rPr>
              <a:t> </a:t>
            </a:r>
            <a:r>
              <a:rPr b="1" lang="it-IT" sz="2000" spc="-1" strike="noStrike">
                <a:solidFill>
                  <a:srgbClr val="595959"/>
                </a:solidFill>
                <a:latin typeface="Arial"/>
                <a:ea typeface="Verdana"/>
              </a:rPr>
              <a:t>Anticipare il cambiamento sociale utilizzando come approccio metodologico il monitoraggio dei comportamenti delle persone, prima di </a:t>
            </a:r>
            <a:r>
              <a:rPr b="1" lang="it-IT" sz="2000" spc="-1" strike="noStrike">
                <a:solidFill>
                  <a:srgbClr val="595959"/>
                </a:solidFill>
                <a:latin typeface="Arial"/>
                <a:ea typeface="Arial"/>
              </a:rPr>
              <a:t>sviluppare nuove ipotesi progettuali</a:t>
            </a:r>
            <a:r>
              <a:rPr b="1" lang="it-IT" sz="2000" spc="-1" strike="noStrike">
                <a:solidFill>
                  <a:srgbClr val="595959"/>
                </a:solidFill>
                <a:latin typeface="Arial"/>
                <a:ea typeface="Verdana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spcAft>
                <a:spcPts val="799"/>
              </a:spcAft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2T08:57:31Z</dcterms:created>
  <dc:creator>Silvia</dc:creator>
  <dc:description/>
  <dc:language>en-US</dc:language>
  <cp:lastModifiedBy>Rebecca Pera</cp:lastModifiedBy>
  <cp:lastPrinted>2003-05-08T11:08:41Z</cp:lastPrinted>
  <dcterms:modified xsi:type="dcterms:W3CDTF">2014-08-09T07:43:22Z</dcterms:modified>
  <cp:revision>215</cp:revision>
  <dc:subject/>
  <dc:title>Inserire immagine della locandina, possibilmente in trasparenza e aggiungere Facoltà di Architettura Illustrazione prova di ammissione prof. Silvia Piardi (idem Cedolin)</dc:title>
</cp:coreProperties>
</file>